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E2D-0F4D-4836-BBA0-78603DB7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BE5-4326-4371-BBFA-A387D469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9F4-439C-4CEE-9C5D-B927CF2D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6A0-949D-4090-9848-C220E8EE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57D-6EC2-4A6D-98F4-EB09D62B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681-B68C-4F52-8169-53A2C299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E18-0C78-4095-8AD4-954E852A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B93-DA6E-4C1C-94C8-DCDD1A4B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82A-02A0-4E25-8B75-B579B158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C0D-B65B-46E3-B826-5301C619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D20-CA1C-494C-B98C-FC1545B7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9A7-3C15-4D36-8964-3465C1C9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42B-3476-466D-86CD-B92C5CF32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4924_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20732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9T12:42:45Z</dcterms:created>
  <dc:creator>Sabrina</dc:creator>
  <dc:description/>
  <dc:language>en-US</dc:language>
  <cp:lastModifiedBy>Sabrina</cp:lastModifiedBy>
  <dcterms:modified xsi:type="dcterms:W3CDTF">2000-03-19T12:42:57Z</dcterms:modified>
  <cp:revision>1</cp:revision>
  <dc:subject/>
  <dc:title>ECDL</dc:title>
</cp:coreProperties>
</file>