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4AD-93A4-4EDD-8251-E31E9248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21B-B881-4E20-A566-F199B81A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681-B4AA-40F5-8D7A-FFED1EF5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44F-EA71-4D51-B487-4D642D93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C75-C445-445D-9053-E2374214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E2B-B5E0-43EC-8F91-FA350AA6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F6F-25B9-4725-9A94-6529218B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638-B887-4E6E-8C70-24064F77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23F-5F7F-4748-A484-491FC723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727-A44B-401E-8BCA-C0419C30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80B-2C72-4862-8FA0-2EDBD7C1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33A-7706-4A93-9A7A-8226FAD7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5071-C1DF-4C0B-9431-9E211C068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a patente Europea de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2514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uesto è un file di eserci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429000"/>
            <a:ext cx="5105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esso dovete aprire una nuova diapositiva andate s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 2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IS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 2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OVA DIAPOS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16:42:22Z</dcterms:created>
  <dc:creator>Franco Grossi</dc:creator>
  <dc:description/>
  <dc:language>en-US</dc:language>
  <cp:lastModifiedBy>Franco Grossi</cp:lastModifiedBy>
  <dcterms:modified xsi:type="dcterms:W3CDTF">2000-05-03T16:45:05Z</dcterms:modified>
  <cp:revision>2</cp:revision>
  <dc:subject/>
  <dc:title>La patente Europea del computer</dc:title>
</cp:coreProperties>
</file>