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EADB-C3D3-4674-AE13-E8D3D472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D64-F58E-487B-AE5A-A1F5DF33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7508-C0FD-45CA-8905-2594DB7F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96DD-7B6D-4166-87AD-6E0B8D67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758-B13F-4780-A1D3-C92F2311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32A7-5051-460E-870C-FA49E6AA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A9E-51D6-4270-9EEC-FDC30F3F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C88-E50F-4615-9D81-6ABC6FAB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9941-DCB4-4415-B721-B8DEFAE1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0CB-A030-4480-AA97-A5DBC47F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B19-B897-4FA6-9A15-A5A72F23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DC1-698A-45A4-A826-28CCEEDE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7339-7083-4879-814C-0193EDE9C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La patente Europea de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2514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uesto è un file di eserci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429000"/>
            <a:ext cx="5105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esso dovete aprire una nuova diapositiva andate s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 2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RIS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 2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OVA DIAPOS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aisitok" descr=""/>
          <p:cNvPicPr/>
          <p:nvPr/>
        </p:nvPicPr>
        <p:blipFill>
          <a:blip r:embed="rId2"/>
          <a:stretch/>
        </p:blipFill>
        <p:spPr>
          <a:xfrm>
            <a:off x="5791320" y="3962520"/>
            <a:ext cx="2422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16:24:58Z</dcterms:created>
  <dc:creator>Franco Grossi</dc:creator>
  <dc:description/>
  <dc:language>en-US</dc:language>
  <cp:lastModifiedBy>Punto Casa</cp:lastModifiedBy>
  <dcterms:modified xsi:type="dcterms:W3CDTF">2001-07-18T14:49:08Z</dcterms:modified>
  <cp:revision>4</cp:revision>
  <dc:subject/>
  <dc:title>La patente Europea del computer</dc:title>
</cp:coreProperties>
</file>